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F885-939A-4B1E-9EB8-D8A6270F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BC12-6EE2-4515-B6D8-D1C75940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36D7-B0D6-4100-A7BA-6E87A6EA4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813F-B042-453E-8E35-B49A1962A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60A1-B68A-4C92-A357-97194123E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4DD3-F9F5-4F42-BEAF-4AE1AABD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4B85-7E3C-435F-BA27-63F2CEF1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CF18-0668-4B34-A0CB-F334C4C4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0959-1A4E-4007-BC64-4E13F252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927A-27AD-4304-A9E2-3004969F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8C11-64DD-4380-B896-37BA96B3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38D7-15D1-4A8A-B8FB-C1A00BAC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CE96-198D-468E-B170-40F36A03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5F9B-94FD-40E8-8BD2-EF4B6311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8891-172D-4256-B75F-7EC1690F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CCB6-6C95-4F20-8AFC-79D34CE0F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6144-7387-4035-AD6B-B099D0931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B2C3-2C62-4F19-BBA0-3905BD54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5073-18AA-477B-956E-D7C612C1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A201-DEE3-4B6B-84BE-2D7D7FC9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0C3F-65E4-4715-97C0-941DC3C9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3D0C-74B5-40A8-AE85-3B96116E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F9DF-A0F9-4C21-87A9-011CBC02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2D78-1621-4CC8-8FF5-BDF3B50D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5351-4C3E-422F-A730-95774269EC5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B6D2-B03E-4DF0-A405-A2261F17378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ahe drysdal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Profi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Full name: Alexander  mahe owens drysd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ge: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DOB:19 november 197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Born in: melboru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eight:199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Weight:100k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0" y="692280"/>
            <a:ext cx="4071960" cy="38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Family and histor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Moth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Fath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Sibling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Where they grew up: Melbourne, Austra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Do they have a job other than their spor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Sporting pas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Past Olympics: 2008 Beijing, 2004 Ath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wards won: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ow old were they when they started: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ave they had to overcome any problems to get where they are now?</a:t>
            </a:r>
            <a:br>
              <a:rPr sz="2800"/>
            </a:b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e was sick at the 2008 Beijing Olympics, but he got back in his boat and did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Being the best they can b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What do they have to do to be as good as they are?</a:t>
            </a:r>
            <a:br>
              <a:rPr sz="3200"/>
            </a:b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(Training, food, lifestyle…)</a:t>
            </a:r>
            <a:br>
              <a:rPr sz="3200"/>
            </a:b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e had to train ages every day except Sunday, he has a day off.</a:t>
            </a:r>
            <a:br>
              <a:rPr sz="3200"/>
            </a:b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ealthy and fit.</a:t>
            </a:r>
            <a:br>
              <a:rPr sz="3200"/>
            </a:b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Eats vegetables and fruit and meat for streng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Why this athlet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Explain here why you have chosen this athlete. What do you like about them? How have they inspired yo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e’s n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e is good at 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e really pushes his hard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0:13:15Z</dcterms:created>
  <dc:creator>Miriam Laidlaw</dc:creator>
  <dc:description/>
  <dc:language>en-US</dc:language>
  <cp:lastModifiedBy>Ministry of Education</cp:lastModifiedBy>
  <dcterms:modified xsi:type="dcterms:W3CDTF">2008-09-25T02:17:59Z</dcterms:modified>
  <cp:revision>6</cp:revision>
  <dc:subject/>
  <dc:title>Name of Athlete</dc:title>
</cp:coreProperties>
</file>